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BC6F-B05B-4A21-81BD-7C24BE939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onvey our interpretation of a simple outage, let’s go over a few defin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MPs are calculated using a DC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pology refers to the shape of a network, or the network's layout. How different nodes in a network are connected to each other and how they communicate are determined by the network's topology. Topologies are eithe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physic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gic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 Protocol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A Planned Outage or Maintenance Outage of any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Transmission Element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in the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Network Operations Model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such that when the Transmission Element is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removed from its normal service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absent a Forced Outage of other Transmission Elements, the Outage does not cause a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topology change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in the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LMP calculation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and thus cannot cause any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LMPs to change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with or without the Transmission Element that is suffering the Outage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B40-D71C-44B0-BE93-44A11027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A4E-FBC9-4950-8678-70F87766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9B9-F9D8-4DA4-A60E-73D5E1FB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EDE-7D3A-498F-9DE1-D69D648A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656-AD44-4024-A596-06787041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BB8-AC8A-4559-8ED8-E53A0354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D2F-4FFA-430E-8094-6727FC13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3DF-B6BB-4040-9FA7-18485E95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4E7-D9AD-4D7B-B4FA-B76FBD9B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914-67FC-42E6-B7AA-FE78B8CD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11A-E716-4F86-B90D-30781940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8C6-72D9-48B2-B5DA-7A7F6583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561C-3E36-48A3-B1D6-349CE762F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ebopedia.com/quick_ref/network.html" TargetMode="External"/><Relationship Id="rId2" Type="http://schemas.openxmlformats.org/officeDocument/2006/relationships/hyperlink" Target="http://www.webopedia.com/quick_ref/node.html" TargetMode="External"/><Relationship Id="rId3" Type="http://schemas.openxmlformats.org/officeDocument/2006/relationships/hyperlink" Target="http://www.webopedia.com/quick_ref/physical_topology.html" TargetMode="External"/><Relationship Id="rId4" Type="http://schemas.openxmlformats.org/officeDocument/2006/relationships/hyperlink" Target="http://www.webopedia.com/quick_ref/logical_topology.html" TargetMode="External"/><Relationship Id="rId5" Type="http://schemas.openxmlformats.org/officeDocument/2006/relationships/hyperlink" Target="http://www.webopedia.com/quick_ref/node.html" TargetMode="External"/><Relationship Id="rId6" Type="http://schemas.openxmlformats.org/officeDocument/2006/relationships/hyperlink" Target="http://www.webopedia.com/quick_ref/bus.html" TargetMode="External"/><Relationship Id="rId7" Type="http://schemas.openxmlformats.org/officeDocument/2006/relationships/hyperlink" Target="http://www.webopedia.com/quick_ref/backbone.html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etworkTopologies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swers.com/main/ntquery?dsid=2222&amp;dekey=Electrical+element" TargetMode="External"/><Relationship Id="rId2" Type="http://schemas.openxmlformats.org/officeDocument/2006/relationships/hyperlink" Target="http://www.answers.com/main/ntquery?dsid=2222&amp;dekey=Resistor" TargetMode="External"/><Relationship Id="rId3" Type="http://schemas.openxmlformats.org/officeDocument/2006/relationships/hyperlink" Target="http://www.answers.com/main/ntquery?dsid=2222&amp;dekey=Inductor" TargetMode="External"/><Relationship Id="rId4" Type="http://schemas.openxmlformats.org/officeDocument/2006/relationships/hyperlink" Target="http://www.answers.com/main/ntquery?dsid=2222&amp;dekey=Capacitor" TargetMode="External"/><Relationship Id="rId5" Type="http://schemas.openxmlformats.org/officeDocument/2006/relationships/hyperlink" Target="http://www.answers.com/main/ntquery?dsid=2222&amp;dekey=Switch" TargetMode="External"/><Relationship Id="rId6" Type="http://schemas.openxmlformats.org/officeDocument/2006/relationships/hyperlink" Target="http://www.answers.com/main/ntquery?dsid=2222&amp;dekey=Integrated+circuit" TargetMode="External"/><Relationship Id="rId7" Type="http://schemas.openxmlformats.org/officeDocument/2006/relationships/hyperlink" Target="http://www.answers.com/main/ntquery?dsid=2222&amp;dekey=Electricity+distribution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IMPLE TRANSMISSION OU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flipV="1">
            <a:off x="1600200" y="50288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057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2346b1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523520" y="2286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2286000"/>
            <a:ext cx="122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048200" y="2286000"/>
            <a:ext cx="49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286000"/>
            <a:ext cx="247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457360" y="2133360"/>
            <a:ext cx="17172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25909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9810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gradFill rotWithShape="0">
            <a:gsLst>
              <a:gs pos="0">
                <a:srgbClr val="3366ff"/>
              </a:gs>
              <a:gs pos="50000">
                <a:srgbClr val="2346b1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2666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ad or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5105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2346b1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990360" y="5334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54864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600200" y="3962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600200" y="3428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6172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3429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4191120"/>
            <a:ext cx="2857680" cy="904680"/>
          </a:xfrm>
          <a:prstGeom prst="wedgeRoundRectCallout">
            <a:avLst>
              <a:gd name="adj1" fmla="val -119055"/>
              <a:gd name="adj2" fmla="val 352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can be taken out as a simple ou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4191120"/>
            <a:ext cx="4114800" cy="914400"/>
          </a:xfrm>
          <a:prstGeom prst="wedgeRoundRectCallout">
            <a:avLst>
              <a:gd name="adj1" fmla="val -94060"/>
              <a:gd name="adj2" fmla="val -2307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erator breakers can be taken out as a Simple Outage provided the Unit is on a Planned Ou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572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657600"/>
            <a:ext cx="30456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133720"/>
            <a:ext cx="304560" cy="304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800600"/>
            <a:ext cx="30456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5562720"/>
            <a:ext cx="304560" cy="304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62120" y="41911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62120" y="34286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4648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447560" y="45720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ing of energized Transmission voltage level devices that directly connect to normally open-ended line segments and will not swap load or change load flow dir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ertain restrictions, an ongoing bus outage may be expanded to include directly connected lines that were open-ended by the bus outage if the requesting TO controls all involved equipment. The line(s) must have a single switch or breaker to isolate it from the remaining energized system.  To qualify for this expansion, the opposite end of the line/equipment newly included in the existing outage must be isolated from the next bus through opening a single switch or br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work on breakers that directly connect to a generator if the unit is scheduled off line due to a planned or forced outage.  The maintenance work may be expanded to include the line open ended by that breaker, if the line segment can be isolated by a single switch or breaker.  The maintenance must end prior to the unit becoming available and must not delay the unit’s ability to return to service nor affect the unit(s)’ capabil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Question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pology refers to the shape of a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network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, or the network's layout. How differen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nod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in a network are connected to each other and how they communicate are determined by the network's topology. Topologies are either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hysica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logica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elow are diagrams of the most common network topolog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esh Top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ices are connected with many redundant interconnections between network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nod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. In a true mesh topology every node has a connection to every other node in the networ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us Top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 devices are connected to a central cable, called 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bu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or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backbon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ng Top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 devices are connected to one another in the shape of a closed loop, so that each device is connected directly to two other devices, one on either side of i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ee Top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hybrid topology. Groups of star-configured networks are connected to a linear bus backb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opolog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Nodal Protocol Defi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26 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imple Transmission Ou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lanned Outage or Maintenance Outage of any Transmission Element in the Network Operations Model such that when the Transmission Element is removed from its normal service, absent a Forced Outage of other Transmission Elements, the Outage does not cause a topology change in the LMP calculation and thus cannot cause any LMPs to change with or without the Transmission Element that is suffering the Out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pology refers to the shape of a network, or the network's layout. How different nodes in a network are connected to each other and how they communicate are determined by the network's topology. Topologies are eith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ogic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opolog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Network Top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Image showing different network layou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523880"/>
            <a:ext cx="7925040" cy="421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60958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dividual symbols in each example represent  a Load,  a Generator, or 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lectrical Networ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ical net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interconnection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ectrical 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sisto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ducto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pacito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witch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It can be as small as a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tegrated circui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n a silicon chip, or as large as a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lectricity distributio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r transmission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imple Transmission Outage bound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age must not cause a topology change in the LMP cal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age request must be submitted at least 1 day prior to the requested start d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ll not cause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ll not violate applicable reliability stand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to 12 hours or less in du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ation time shall not exceed 1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ple Transmission Outage bound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429000" y="4724280"/>
            <a:ext cx="341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33920" y="4495320"/>
            <a:ext cx="2365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286000"/>
            <a:ext cx="3809880" cy="609480"/>
          </a:xfrm>
          <a:prstGeom prst="wedgeRoundRectCallout">
            <a:avLst>
              <a:gd name="adj1" fmla="val 44041"/>
              <a:gd name="adj2" fmla="val 3013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RCOT Model must indicate switch position is normally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2209680"/>
            <a:ext cx="2666880" cy="609840"/>
          </a:xfrm>
          <a:prstGeom prst="wedgeRoundRectCallout">
            <a:avLst>
              <a:gd name="adj1" fmla="val -72856"/>
              <a:gd name="adj2" fmla="val 322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can be taken out as a simple ou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 rot="5400000">
            <a:off x="1018800" y="3828960"/>
            <a:ext cx="276120" cy="3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 rot="5400000">
            <a:off x="7581240" y="3819240"/>
            <a:ext cx="276480" cy="3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 rot="5400000">
            <a:off x="5514840" y="3848040"/>
            <a:ext cx="276120" cy="34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 rot="5400000">
            <a:off x="3057480" y="3857760"/>
            <a:ext cx="276480" cy="34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504720" y="2238480"/>
            <a:ext cx="60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4419720"/>
            <a:ext cx="609840" cy="533160"/>
          </a:xfrm>
          <a:prstGeom prst="hexagon">
            <a:avLst>
              <a:gd name="adj" fmla="val 28596"/>
              <a:gd name="vf" fmla="val 115470"/>
            </a:avLst>
          </a:prstGeom>
          <a:gradFill rotWithShape="0">
            <a:gsLst>
              <a:gs pos="0">
                <a:srgbClr val="3366ff"/>
              </a:gs>
              <a:gs pos="50000">
                <a:srgbClr val="2953d0"/>
              </a:gs>
              <a:gs pos="100000">
                <a:srgbClr val="3366ff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47242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47242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4724280"/>
            <a:ext cx="129564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99480" y="5943600"/>
            <a:ext cx="52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l symbols  represent  a Load or 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441972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gradFill rotWithShape="0">
            <a:gsLst>
              <a:gs pos="0">
                <a:srgbClr val="3366ff"/>
              </a:gs>
              <a:gs pos="50000">
                <a:srgbClr val="2953d0"/>
              </a:gs>
              <a:gs pos="100000">
                <a:srgbClr val="3366ff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441972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gradFill rotWithShape="0">
            <a:gsLst>
              <a:gs pos="0">
                <a:srgbClr val="3366ff"/>
              </a:gs>
              <a:gs pos="50000">
                <a:srgbClr val="2953d0"/>
              </a:gs>
              <a:gs pos="100000">
                <a:srgbClr val="3366ff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441972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gradFill rotWithShape="0">
            <a:gsLst>
              <a:gs pos="0">
                <a:srgbClr val="3366ff"/>
              </a:gs>
              <a:gs pos="50000">
                <a:srgbClr val="2953d0"/>
              </a:gs>
              <a:gs pos="100000">
                <a:srgbClr val="3366ff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75248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39625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175248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133720"/>
            <a:ext cx="304920" cy="304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352680"/>
            <a:ext cx="30492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2743200"/>
            <a:ext cx="30492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175248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133720"/>
            <a:ext cx="304560" cy="304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352680"/>
            <a:ext cx="30456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2743200"/>
            <a:ext cx="30456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75248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2133720"/>
            <a:ext cx="304560" cy="304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3352680"/>
            <a:ext cx="30456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743200"/>
            <a:ext cx="30456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" y="25909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57200" y="18284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905120" y="25909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905120" y="18284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276720" y="25909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276720" y="18284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742840" y="32004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632448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5715000"/>
            <a:ext cx="30492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562720" y="6019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010280" y="6019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8381880" y="6019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320040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4114800"/>
            <a:ext cx="381240" cy="30492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010280" y="5409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81880" y="5409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400440" y="5410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772040" y="5410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54100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54100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2004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295280" y="32004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32004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2286000"/>
            <a:ext cx="2857680" cy="905040"/>
          </a:xfrm>
          <a:prstGeom prst="wedgeRoundRectCallout">
            <a:avLst>
              <a:gd name="adj1" fmla="val -54000"/>
              <a:gd name="adj2" fmla="val 122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can be taken out as a simple ou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49568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Ou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5715000"/>
            <a:ext cx="30492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5715000"/>
            <a:ext cx="30492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06:54Z</dcterms:created>
  <dc:creator>RPoston</dc:creator>
  <dc:description/>
  <dc:language>en-US</dc:language>
  <cp:lastModifiedBy>RPoston</cp:lastModifiedBy>
  <dcterms:modified xsi:type="dcterms:W3CDTF">2006-07-18T16:13:48Z</dcterms:modified>
  <cp:revision>14</cp:revision>
  <dc:subject/>
  <dc:title>SIMPLE TRANSMISSION OUTAGE</dc:title>
</cp:coreProperties>
</file>